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C45D-9FB2-4233-B115-E0B73CA1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71F0-6F52-421E-B031-64451972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5DF9-CB0D-4EA6-A528-8794CF69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054-3ADF-4567-ADAC-5332C19C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034B-6D29-4E16-AB21-32C08B3C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27C-6888-433A-BCB1-38DDC94F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23F-ABE7-423D-A1B1-DE3BB274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17E1-2124-440F-83A6-841843FC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0EE-99A3-4D6D-B290-73A84301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46A-B9EC-4EDF-A107-A6BBD1D6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0658-5802-4808-85C3-F70B37DB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586-2EFB-4503-B97C-324C135B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3855-E927-4B12-8545-375157C4E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lencoe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9N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11 de abril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4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omo es un mesó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D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. 1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24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Una merienda, ¿Dond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1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ren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1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la hoj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pitulo 4: Una merienda  ¿Don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lenco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passCode: ASD4003c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READING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 COMIDA EN OTRAS PARTES;SELF CHECK QU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849400"/>
            <a:ext cx="82296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1:38:25Z</dcterms:created>
  <dc:creator>Helen Zumaeta</dc:creator>
  <dc:description/>
  <dc:language>en-US</dc:language>
  <cp:lastModifiedBy>Helen Zumaeta</cp:lastModifiedBy>
  <dcterms:modified xsi:type="dcterms:W3CDTF">2011-04-11T13:07:36Z</dcterms:modified>
  <cp:revision>4</cp:revision>
  <dc:subject/>
  <dc:title>Me llamo ________ Clase 9N La fecha es 11 de abril del 2011</dc:title>
</cp:coreProperties>
</file>